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~PP708.WAV" ContentType="audio/x-wav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185-C712-4BE9-AEC7-72712521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D84-FDDA-48CB-9E30-A774EC79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6EB-9D40-42EF-A13B-D87F323C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78F-824C-4264-8638-CF3FEF28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8CD-C090-4972-992B-EACE4889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A7B-3D6F-4C67-BDC2-7C8F68BF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779-D6C3-45F2-9955-30BC10D5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1AC-F10E-47CA-A70B-C779CF51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DB3-4E93-4442-9A61-2F5AF38F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A4F-A188-4842-86FB-52D2F4AE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243-8518-4181-ABC4-7D8B4183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96B-4B81-46DA-BB10-DDC2E3C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AE8C-EB9D-4543-8841-CE35CA48C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~PP708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840" y="2214720"/>
            <a:ext cx="864396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990000"/>
                </a:solidFill>
                <a:latin typeface="Calibri"/>
              </a:rPr>
              <a:t>Восприятие?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Как человек познаёт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кружающий ми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go2.imgsmail.ru/imgpreview?key=http%3A//5klass.net/datas/okruzhajuschij-mir/Organy-chuvstv-1-klass/0004-004-Organy-chuvstv.jpg&amp;mb=imgdb_preview_92"/>
          <p:cNvPicPr/>
          <p:nvPr/>
        </p:nvPicPr>
        <p:blipFill>
          <a:blip r:embed="rId2"/>
          <a:stretch/>
        </p:blipFill>
        <p:spPr>
          <a:xfrm>
            <a:off x="214200" y="1928880"/>
            <a:ext cx="4143600" cy="386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rebenochek.com/wp-content/uploads/2012/07/f_4a9285718a0cc.jpg"/>
          <p:cNvPicPr/>
          <p:nvPr/>
        </p:nvPicPr>
        <p:blipFill>
          <a:blip r:embed="rId3"/>
          <a:stretch/>
        </p:blipFill>
        <p:spPr>
          <a:xfrm>
            <a:off x="4643280" y="1928880"/>
            <a:ext cx="42865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21520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6999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Calibri"/>
              </a:rPr>
              <a:t>Научиться точно воспринимать букв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grassy_river_bank.jpg"/>
          <p:cNvPicPr/>
          <p:nvPr/>
        </p:nvPicPr>
        <p:blipFill>
          <a:blip r:embed="rId1"/>
          <a:stretch/>
        </p:blipFill>
        <p:spPr>
          <a:xfrm>
            <a:off x="20520" y="73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skazles.ru/azbuka/img/0010.jpg"/>
          <p:cNvPicPr/>
          <p:nvPr/>
        </p:nvPicPr>
        <p:blipFill>
          <a:blip r:embed="rId2"/>
          <a:srcRect l="0" t="13828" r="46346" b="0"/>
          <a:stretch/>
        </p:blipFill>
        <p:spPr>
          <a:xfrm>
            <a:off x="324000" y="3209760"/>
            <a:ext cx="2952720" cy="345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skazles.ru/azbuka/img/0010.jpg"/>
          <p:cNvPicPr/>
          <p:nvPr/>
        </p:nvPicPr>
        <p:blipFill>
          <a:blip r:embed="rId3"/>
          <a:srcRect l="50008" t="8055" r="0" b="0"/>
          <a:stretch/>
        </p:blipFill>
        <p:spPr>
          <a:xfrm>
            <a:off x="5867280" y="3959280"/>
            <a:ext cx="214308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30240" y="-34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izuchalkin.ru/loadpic/pic1/3317-kartochka-s-kartinkami-na-bukv-1.jpg"/>
          <p:cNvPicPr/>
          <p:nvPr/>
        </p:nvPicPr>
        <p:blipFill>
          <a:blip r:embed="rId2"/>
          <a:stretch/>
        </p:blipFill>
        <p:spPr>
          <a:xfrm>
            <a:off x="1979640" y="749160"/>
            <a:ext cx="56880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ей «ксерокс» самый точны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go3.imgsmail.ru/imgpreview?key=http%3A//www.xerostore.ru/images/sr/Xerox-Phaser-3250D-47-16312.jpg&amp;mb=imgdb_preview_220"/>
          <p:cNvPicPr/>
          <p:nvPr/>
        </p:nvPicPr>
        <p:blipFill>
          <a:blip r:embed="rId2"/>
          <a:stretch/>
        </p:blipFill>
        <p:spPr>
          <a:xfrm>
            <a:off x="250920" y="1484280"/>
            <a:ext cx="3495600" cy="302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go2.imgsmail.ru/imgpreview?key=http%3A//kemclub.ru/best/3701930.jpg&amp;mb=imgdb_preview_394"/>
          <p:cNvPicPr/>
          <p:nvPr/>
        </p:nvPicPr>
        <p:blipFill>
          <a:blip r:embed="rId3"/>
          <a:stretch/>
        </p:blipFill>
        <p:spPr>
          <a:xfrm rot="20130000">
            <a:off x="7726320" y="3695400"/>
            <a:ext cx="1131840" cy="87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go2.imgsmail.ru/imgpreview?key=http%3A//olympus.ourlife.ru/gallery/data/media/3/list-yell-1.jpg&amp;mb=imgdb_preview_60"/>
          <p:cNvPicPr/>
          <p:nvPr/>
        </p:nvPicPr>
        <p:blipFill>
          <a:blip r:embed="rId4"/>
          <a:stretch/>
        </p:blipFill>
        <p:spPr>
          <a:xfrm rot="3540600">
            <a:off x="4999320" y="1848600"/>
            <a:ext cx="814320" cy="112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://bigslide.ru/images/4/3787/960/img2.jpg"/>
          <p:cNvPicPr/>
          <p:nvPr/>
        </p:nvPicPr>
        <p:blipFill>
          <a:blip r:embed="rId5"/>
          <a:stretch/>
        </p:blipFill>
        <p:spPr>
          <a:xfrm>
            <a:off x="3730680" y="2206800"/>
            <a:ext cx="52545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560" y="4406760"/>
            <a:ext cx="90010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99000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ВАН </a:t>
            </a:r>
            <a:r>
              <a:rPr b="1" lang="ru-RU" sz="4900" spc="-1" strike="noStrike">
                <a:solidFill>
                  <a:srgbClr val="990000"/>
                </a:solidFill>
                <a:latin typeface="Calibri"/>
              </a:rPr>
              <a:t>БУНИН</a:t>
            </a: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                 </a:t>
            </a:r>
            <a:r>
              <a:rPr b="1" lang="ru-RU" sz="5400" spc="-1" strike="noStrike">
                <a:solidFill>
                  <a:srgbClr val="990000"/>
                </a:solidFill>
                <a:latin typeface="Calibri"/>
              </a:rPr>
              <a:t>ИОГАНН Б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наменитые люд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v.zarnews.uz/uploads/posts/2015-10-24/1445680148_bezimeni-1.jpg"/>
          <p:cNvPicPr/>
          <p:nvPr/>
        </p:nvPicPr>
        <p:blipFill>
          <a:blip r:embed="rId2"/>
          <a:stretch/>
        </p:blipFill>
        <p:spPr>
          <a:xfrm>
            <a:off x="539640" y="1413000"/>
            <a:ext cx="3024360" cy="305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cs406431.vk.me/v406431282/1731/QtVEbXzru7w.jpg"/>
          <p:cNvPicPr/>
          <p:nvPr/>
        </p:nvPicPr>
        <p:blipFill>
          <a:blip r:embed="rId3"/>
          <a:stretch/>
        </p:blipFill>
        <p:spPr>
          <a:xfrm>
            <a:off x="5796000" y="1413000"/>
            <a:ext cx="2624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ключите повторяющиеся бук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571760" y="2714760"/>
            <a:ext cx="571320" cy="77148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214720" y="2714760"/>
            <a:ext cx="71424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4286160" y="2714760"/>
            <a:ext cx="71460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7143840" y="2714760"/>
            <a:ext cx="71424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5072040" y="2714760"/>
            <a:ext cx="71424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3000240" y="2714760"/>
            <a:ext cx="571680" cy="77148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3643200" y="2714760"/>
            <a:ext cx="57168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792972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28584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1"/>
          <p:cNvSpPr/>
          <p:nvPr/>
        </p:nvSpPr>
        <p:spPr>
          <a:xfrm>
            <a:off x="92880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2"/>
          <p:cNvSpPr/>
          <p:nvPr/>
        </p:nvSpPr>
        <p:spPr>
          <a:xfrm>
            <a:off x="585792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3"/>
          <p:cNvSpPr/>
          <p:nvPr/>
        </p:nvSpPr>
        <p:spPr>
          <a:xfrm>
            <a:off x="6500880" y="2714760"/>
            <a:ext cx="571320" cy="785520"/>
          </a:xfrm>
          <a:prstGeom prst="rect">
            <a:avLst/>
          </a:prstGeom>
          <a:solidFill>
            <a:srgbClr val="99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Alex\Desktop\Е.Ю\126 фоны для презентаций\яркос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135684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На уроке я понял …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На уроке я узнал …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На уроке я разобрался…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На уроке меня порадовало…</a:t>
            </a: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alibri"/>
              </a:rPr>
              <a:t>Я похвалил бы себя за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2:13:59Z</dcterms:created>
  <dc:creator>Alex</dc:creator>
  <dc:description/>
  <dc:language>en-US</dc:language>
  <cp:lastModifiedBy>админ</cp:lastModifiedBy>
  <dcterms:modified xsi:type="dcterms:W3CDTF">2016-12-06T15:24:26Z</dcterms:modified>
  <cp:revision>15</cp:revision>
  <dc:subject/>
  <dc:title>Слайд 1</dc:title>
</cp:coreProperties>
</file>